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063F1-BB0F-4014-A3F9-B55729E2B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93968-D211-4EEB-9401-B96669012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19907-24AD-47A6-B8E5-7749BA7AA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8A249-8E80-42DA-AB7F-297330194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7CF1A-0C1D-403E-AC60-278D02773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E23B7-9EBD-445D-AC3C-D7710F8D6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E84B0-BEE2-487B-B98C-885E99F80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5EAB1-E9D2-4230-B4C2-DAF3E9910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6C0B4-D065-4DBB-B74B-517B00AD6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99B4D-BD51-4144-B06B-E1EDB8099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938E9-F2A4-4BCD-B429-EFE87E184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9CB32-88E4-499B-9549-78CB70BCB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61512-B412-45C5-8337-D7DE52F69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00344-A465-4B22-8DC8-E8F1F7D0E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CB3D0-6E70-4FC6-A4CB-A8A8313E0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9E382-8E78-44BD-BAC5-613C280A6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00B7F-9671-4C4A-B9E6-104F2C0FE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99ED3-E6A5-4B94-9198-B452B081E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1E724-E66F-4E79-8AE4-B8979E6F9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79FF4-BEFE-42F4-BAA6-D3CE958F7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F9345-E071-4AD2-9D78-EE6F8403D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5004A-7F57-4796-8B0E-03FC18E49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A55DD-D9C8-4AB3-B629-51D57883B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F95D4-680E-40CE-AAD6-37978DBBD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500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3FD2E-B1FD-4D99-AF50-2370E9306FBC}" type="slidenum">
              <a:rPr b="0" lang="es-E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500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69343-830F-45FA-8AC5-70D5C7C00F3A}" type="slidenum">
              <a:rPr b="0" lang="es-E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hyperlink" Target="http://www.pedritos-home.com/Logo_Cajasur_ok.jpg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pedritos-home.com/Logo_Cajasur_ok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pedritos-home.com/Logo_Cajasur_ok.jpg" TargetMode="Externa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pedritos-home.com/Logo_Cajasur_ok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pedritos-home.com/Logo_Cajasur_ok.jpg" TargetMode="External"/><Relationship Id="rId2" Type="http://schemas.openxmlformats.org/officeDocument/2006/relationships/image" Target="../media/image3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pedritos-home.com/Logo_Cajasur_ok.jpg" TargetMode="External"/><Relationship Id="rId2" Type="http://schemas.openxmlformats.org/officeDocument/2006/relationships/image" Target="../media/image3.jpe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pedritos-home.com/Logo_Cajasur_ok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684360" y="765000"/>
            <a:ext cx="8194680" cy="16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4c000f"/>
                    </a:gs>
                    <a:gs pos="100000">
                      <a:srgbClr val="a50021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Organización y administracion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4c000f"/>
                  </a:gs>
                  <a:gs pos="100000">
                    <a:srgbClr val="a50021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4c000f"/>
                    </a:gs>
                    <a:gs pos="100000">
                      <a:srgbClr val="a50021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4c000f"/>
                    </a:gs>
                    <a:gs pos="100000">
                      <a:srgbClr val="a50021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de empresas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4c000f"/>
                  </a:gs>
                  <a:gs pos="100000">
                    <a:srgbClr val="a50021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763640" y="3068640"/>
            <a:ext cx="5904000" cy="28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500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1187280" y="1413000"/>
            <a:ext cx="6409080" cy="46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uesto 2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¿Cuál es el título de su cargo en la organizació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able Financie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¿Cuál es su misión principal en la organizació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actar las cuentas de forma correcta y fiable para evitar problemas con las auditorias externas y así reflejar la situación económica de la empresa en cada momen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¿Tiene autoridad sobre alguna person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bre la Administración Contable y sobre los Est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¿A qué personas tendría que obedece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 Director del Área Financiera e Interventora Gene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900000" y="476280"/>
            <a:ext cx="6912000" cy="743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ANÁLISIS DE VARIOS PUESTOS DE TRABAJO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50" name="" descr="Ver imagen en tamaño completo"/>
          <p:cNvPicPr/>
          <p:nvPr/>
        </p:nvPicPr>
        <p:blipFill>
          <a:blip r:embed="rId3"/>
          <a:stretch/>
        </p:blipFill>
        <p:spPr>
          <a:xfrm>
            <a:off x="6156360" y="5877000"/>
            <a:ext cx="2784600" cy="76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500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042920" y="1484280"/>
            <a:ext cx="6985080" cy="49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uesto 3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¿Cuál es el título de su cargo en la organizació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fe de los Programas de Form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¿Cuál es su misión principal en la organizació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aborar programas de formación para los nuevos integrantes de la empre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¿Existen cursos, quién los impart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, existen cursos para complementar la formación de nuestros empleados en varias materias. Lo imparte profesionales externos a la empresa o empleados con un alto nivel de formación  preparados para transmitir sus conocimient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¿A qué personas tendría que obedece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 Jefe de Recursos Human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900000" y="476280"/>
            <a:ext cx="6912000" cy="743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ANÁLISIS DE VARIOS PUESTOS DE TRABAJO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53" name="" descr="Ver imagen en tamaño completo"/>
          <p:cNvPicPr/>
          <p:nvPr/>
        </p:nvPicPr>
        <p:blipFill>
          <a:blip r:embed="rId3"/>
          <a:stretch/>
        </p:blipFill>
        <p:spPr>
          <a:xfrm>
            <a:off x="6156360" y="5877000"/>
            <a:ext cx="2784600" cy="76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500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39640" y="3429000"/>
            <a:ext cx="1297080" cy="91692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Área de Banca Minoris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050920" y="3429000"/>
            <a:ext cx="1584360" cy="119124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Área de Planificación Comercial y Marke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851280" y="3429000"/>
            <a:ext cx="1657440" cy="91692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Área de Banca Especializ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724360" y="3429000"/>
            <a:ext cx="1513080" cy="119124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Área Financiera e Interventora Gene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380360" y="3429000"/>
            <a:ext cx="1368360" cy="6426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Área de Riesg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276720" y="549360"/>
            <a:ext cx="1942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40000" y="5300640"/>
            <a:ext cx="93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132000" y="1916280"/>
            <a:ext cx="2448000" cy="504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CIÓN GENE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Ver imagen en tamaño completo"/>
          <p:cNvPicPr/>
          <p:nvPr/>
        </p:nvPicPr>
        <p:blipFill>
          <a:blip r:embed="rId1"/>
          <a:stretch/>
        </p:blipFill>
        <p:spPr>
          <a:xfrm>
            <a:off x="6156360" y="5877000"/>
            <a:ext cx="2784600" cy="76824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 txBox="1"/>
          <p:nvPr/>
        </p:nvSpPr>
        <p:spPr>
          <a:xfrm>
            <a:off x="900000" y="692280"/>
            <a:ext cx="6912000" cy="74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ORGANIGRAMA GENERAL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4" name=""/>
          <p:cNvSpPr/>
          <p:nvPr/>
        </p:nvSpPr>
        <p:spPr>
          <a:xfrm>
            <a:off x="1116000" y="2924280"/>
            <a:ext cx="669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284720" y="242100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16000" y="292428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700360" y="292428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643280" y="292428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156360" y="292428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812000" y="292428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500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Ver imagen en tamaño completo"/>
          <p:cNvPicPr/>
          <p:nvPr/>
        </p:nvPicPr>
        <p:blipFill>
          <a:blip r:embed="rId1"/>
          <a:stretch/>
        </p:blipFill>
        <p:spPr>
          <a:xfrm>
            <a:off x="6156360" y="5877000"/>
            <a:ext cx="2784600" cy="76824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1476360" y="4292640"/>
            <a:ext cx="1297080" cy="5202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cursos Prop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916360" y="4292640"/>
            <a:ext cx="1368360" cy="5202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bilidad Financie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867280" y="4292640"/>
            <a:ext cx="1368720" cy="5202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rol de Gas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763640" y="5300640"/>
            <a:ext cx="93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132000" y="1341360"/>
            <a:ext cx="2448000" cy="10796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ÁREA FINANCIERA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VENTO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539640" y="3789360"/>
            <a:ext cx="7704360" cy="31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42100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39640" y="38210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124000" y="38210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708360" y="378936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076720" y="378936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516720" y="378936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4292640"/>
            <a:ext cx="1368360" cy="73332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olidación e Intervención GE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900000" y="549360"/>
            <a:ext cx="69120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ORGANIGRAMA ESPECÍFICO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6" name=""/>
          <p:cNvSpPr/>
          <p:nvPr/>
        </p:nvSpPr>
        <p:spPr>
          <a:xfrm>
            <a:off x="5076720" y="2708280"/>
            <a:ext cx="1513080" cy="6426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ff de Interven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284720" y="306864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8244000" y="3789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451640" y="4292640"/>
            <a:ext cx="1368360" cy="5202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rol de Gas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427640" y="4292640"/>
            <a:ext cx="1296720" cy="30708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sc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635280" y="5445000"/>
            <a:ext cx="1368360" cy="30708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stad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547640" y="5445000"/>
            <a:ext cx="1368720" cy="5202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ministración Con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492360" y="4797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124000" y="515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124000" y="515772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515772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500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2484360" y="333360"/>
            <a:ext cx="482436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INDICE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8" name=""/>
          <p:cNvSpPr/>
          <p:nvPr/>
        </p:nvSpPr>
        <p:spPr>
          <a:xfrm>
            <a:off x="1403280" y="2133720"/>
            <a:ext cx="2087640" cy="792000"/>
          </a:xfrm>
          <a:prstGeom prst="flowChartAlternateProcess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ALISI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CRIPTIV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211640" y="4149720"/>
            <a:ext cx="2087640" cy="790560"/>
          </a:xfrm>
          <a:prstGeom prst="flowChartAlternateProcess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TOR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TINGENC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5013360"/>
            <a:ext cx="2087640" cy="790560"/>
          </a:xfrm>
          <a:prstGeom prst="flowChartAlternateProcess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FIGUR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RGANIZATIV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627280" y="3141720"/>
            <a:ext cx="2087640" cy="790560"/>
          </a:xfrm>
          <a:prstGeom prst="flowChartAlternateProcess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LEMENT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STRUCTUR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1268280"/>
            <a:ext cx="2087640" cy="719280"/>
          </a:xfrm>
          <a:prstGeom prst="flowChartAlternateProcess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Ver imagen en tamaño completo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156360" y="5877000"/>
            <a:ext cx="2784600" cy="76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500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755640" y="620640"/>
            <a:ext cx="5761080" cy="1800360"/>
          </a:xfrm>
          <a:prstGeom prst="flowChartAlternateProcess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ALISI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SCRIPTI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476360" y="3284640"/>
            <a:ext cx="39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HISTO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476360" y="4005360"/>
            <a:ext cx="39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MISIÓN VIS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Ver imagen en tamaño completo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56360" y="5877000"/>
            <a:ext cx="2784600" cy="76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500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Ver imagen en tamaño completo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56360" y="5877000"/>
            <a:ext cx="2784600" cy="7682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826920" y="1197000"/>
            <a:ext cx="7632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124000" y="404640"/>
            <a:ext cx="468000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HISTORIA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1" name=""/>
          <p:cNvSpPr/>
          <p:nvPr/>
        </p:nvSpPr>
        <p:spPr>
          <a:xfrm>
            <a:off x="1116000" y="1916280"/>
            <a:ext cx="7201080" cy="38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La historia de Cajasur es relativamente reciente. Surje en 1995  de la fusión de Monte de Piedad y Caja de Ahorros de Córdoba, vinculada a la Iglesia Católica y la Caja Provincial de Ahorros de Córdoba, vinculada a la Diputación Provincial. Cajasur era un nombre con el cual venia operando el Monte de Piedad desde hacia añ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El Monte de Piedad y Caja de Ahorros de Córdoba conocido a lo largo de la historia con diversos nombres como Monte de Piedad de Córdoba, como Monte de Piedad del Sr Medina o Caja de Ahorros de Córdoba, fue fundada por el Cabildo Catedrático de Córdoba, como Monte de Piedad, el 1 de septiembre de 1864. En la actualidad es la Iglesia Católica quien sigue controlando a Cajasu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500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Ver imagen en tamaño completo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56360" y="5877000"/>
            <a:ext cx="2784600" cy="768240"/>
          </a:xfrm>
          <a:prstGeom prst="rect">
            <a:avLst/>
          </a:prstGeom>
          <a:ln w="0">
            <a:noFill/>
          </a:ln>
        </p:spPr>
      </p:pic>
      <p:grpSp>
        <p:nvGrpSpPr>
          <p:cNvPr id="103" name=""/>
          <p:cNvGrpSpPr/>
          <p:nvPr/>
        </p:nvGrpSpPr>
        <p:grpSpPr>
          <a:xfrm>
            <a:off x="179280" y="476280"/>
            <a:ext cx="5762880" cy="5304960"/>
            <a:chOff x="179280" y="476280"/>
            <a:chExt cx="5762880" cy="5304960"/>
          </a:xfrm>
        </p:grpSpPr>
        <p:sp>
          <p:nvSpPr>
            <p:cNvPr id="104" name="Pyr1"/>
            <p:cNvSpPr/>
            <p:nvPr/>
          </p:nvSpPr>
          <p:spPr>
            <a:xfrm>
              <a:off x="2421720" y="476280"/>
              <a:ext cx="1291680" cy="1175760"/>
            </a:xfrm>
            <a:prstGeom prst="pi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Pyr2"/>
            <p:cNvSpPr/>
            <p:nvPr/>
          </p:nvSpPr>
          <p:spPr>
            <a:xfrm>
              <a:off x="1673640" y="1652040"/>
              <a:ext cx="2780640" cy="1379520"/>
            </a:xfrm>
            <a:prstGeom prst="pi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Pyr3"/>
            <p:cNvSpPr/>
            <p:nvPr/>
          </p:nvSpPr>
          <p:spPr>
            <a:xfrm>
              <a:off x="933840" y="3031560"/>
              <a:ext cx="4259880" cy="1377720"/>
            </a:xfrm>
            <a:prstGeom prst="pie">
              <a:avLst/>
            </a:prstGeom>
            <a:solidFill>
              <a:srgbClr val="ffbe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Pyr4"/>
            <p:cNvSpPr/>
            <p:nvPr/>
          </p:nvSpPr>
          <p:spPr>
            <a:xfrm>
              <a:off x="179280" y="4402080"/>
              <a:ext cx="5762880" cy="137916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"/>
          <p:cNvSpPr/>
          <p:nvPr/>
        </p:nvSpPr>
        <p:spPr>
          <a:xfrm>
            <a:off x="2700360" y="1341360"/>
            <a:ext cx="100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86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700360" y="1989000"/>
            <a:ext cx="100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87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700360" y="256536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87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700360" y="3213000"/>
            <a:ext cx="115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8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700360" y="3789360"/>
            <a:ext cx="15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9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700360" y="494172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708360" y="1413000"/>
            <a:ext cx="1368360" cy="144360"/>
          </a:xfrm>
          <a:prstGeom prst="rightArrow">
            <a:avLst>
              <a:gd name="adj1" fmla="val 50000"/>
              <a:gd name="adj2" fmla="val 236970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067280" y="2060640"/>
            <a:ext cx="1079280" cy="144360"/>
          </a:xfrm>
          <a:prstGeom prst="rightArrow">
            <a:avLst>
              <a:gd name="adj1" fmla="val 50000"/>
              <a:gd name="adj2" fmla="val 186908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427640" y="2708280"/>
            <a:ext cx="1079280" cy="144360"/>
          </a:xfrm>
          <a:prstGeom prst="rightArrow">
            <a:avLst>
              <a:gd name="adj1" fmla="val 50000"/>
              <a:gd name="adj2" fmla="val 186908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724360" y="5013360"/>
            <a:ext cx="1079640" cy="144360"/>
          </a:xfrm>
          <a:prstGeom prst="rightArrow">
            <a:avLst>
              <a:gd name="adj1" fmla="val 50000"/>
              <a:gd name="adj2" fmla="val 186970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716360" y="3284640"/>
            <a:ext cx="1079640" cy="144360"/>
          </a:xfrm>
          <a:prstGeom prst="rightArrow">
            <a:avLst>
              <a:gd name="adj1" fmla="val 50000"/>
              <a:gd name="adj2" fmla="val 186970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003640" y="3860640"/>
            <a:ext cx="1079640" cy="144720"/>
          </a:xfrm>
          <a:prstGeom prst="rightArrow">
            <a:avLst>
              <a:gd name="adj1" fmla="val 50000"/>
              <a:gd name="adj2" fmla="val 186505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219640" y="1125360"/>
            <a:ext cx="374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219640" y="1197000"/>
            <a:ext cx="3311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undada por el Cabildo Catedrático de Córdoba como Monte de Pied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292720" y="1844640"/>
            <a:ext cx="3456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probación de los primeros Estatutos y Reglamentos por Reales Órden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580000" y="2492280"/>
            <a:ext cx="3313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stituida formalmente por el mismo Cabildo Eclesiástic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96000" y="3068640"/>
            <a:ext cx="2808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probación de los Estatutos vigentes en la actualid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084720" y="3573360"/>
            <a:ext cx="27370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Fusión del Monte de Piedad y Caja de Ahorros de Córdoba y de la Caja Provincial de Ahorros de Córdoba. Adopta el nombre comercial de Cajasu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877080" y="4869000"/>
            <a:ext cx="20876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uenta con 3048 empleados y 485 oficinas repartidas en 15 provinci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500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Ver imagen en tamaño completo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56360" y="5877000"/>
            <a:ext cx="2784600" cy="76824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3203640" y="981000"/>
            <a:ext cx="5499000" cy="370224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468360" y="2133720"/>
            <a:ext cx="358560" cy="3585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68360" y="2852640"/>
            <a:ext cx="358560" cy="358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971640" y="2133720"/>
            <a:ext cx="2087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Provincias que tienen sucursales de Cajas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971640" y="2852640"/>
            <a:ext cx="2016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Provincias que no tienen sucursales de Cajas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500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Ver imagen en tamaño completo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56360" y="5877000"/>
            <a:ext cx="2784600" cy="76824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 txBox="1"/>
          <p:nvPr/>
        </p:nvSpPr>
        <p:spPr>
          <a:xfrm>
            <a:off x="611280" y="476280"/>
            <a:ext cx="309708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MISIÓN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5003640" y="476280"/>
            <a:ext cx="352908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VISIÓN</a:t>
            </a:r>
            <a:endParaRPr b="0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6" name=""/>
          <p:cNvSpPr/>
          <p:nvPr/>
        </p:nvSpPr>
        <p:spPr>
          <a:xfrm>
            <a:off x="611280" y="1916280"/>
            <a:ext cx="3600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La misión de Cajasur es a través de una fundación, hermandad… etc sin animo de lucro, ayudar  a aquellos que lo necesiten tanto económicamente como socialmente, dando trabajo a aquellos que con dedicación y esfuerzo desean llevar a cabo una labor en una Caja de Ahorros como Cajasu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76720" y="1844640"/>
            <a:ext cx="3456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La visión de Cajasur es abrir más oficinas en toda España y lograr sobrevivir a la situación económica que nos acontece saliendo airosos sin necesidad de cerrar oficinas ni dejando sin empleo a sus trabajadores. Da becas a estudiantes, ayuda a personas con discapacidad o en riesgo de exclusión social o subvencionando la conservación del patrimonio histórico-artístico y el medio ambien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500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900000" y="981000"/>
            <a:ext cx="3743280" cy="1008000"/>
          </a:xfrm>
          <a:prstGeom prst="flowChartAlternateProcess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LEMENT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STRUCTUR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971640" y="2565360"/>
            <a:ext cx="58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ÁLISIS DE VARIOS PUESTOS DE TRABAJ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971640" y="4149720"/>
            <a:ext cx="58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ANÁLISIS DE LA CULTURA Y LOS VALORES DE LA ORGANIZ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971640" y="2997360"/>
            <a:ext cx="58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ANÁLISIS DELA ESTRUCTURA FORMAL DE LA ORGANIZACIÓN: ORGANIGRA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971640" y="3716280"/>
            <a:ext cx="58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ANÁLISIS DE PROCES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971640" y="4869000"/>
            <a:ext cx="58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OUTSOUR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Ver imagen en tamaño completo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56360" y="5877000"/>
            <a:ext cx="2784600" cy="76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500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1116000" y="1557360"/>
            <a:ext cx="619272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uesto 1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¿Cuál es el título de su cargo en la organizació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fa de Gestión Comercial y Productiv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¿Cuál es su misión principal en la organizació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ular y controlar la productividad en la empresa para que resulte eficien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¿Tiene autoridad sobre alguna person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bre el área de información comercial y el área de planificación comercial, y las personas que las integra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¿A qué personas tendría que obedece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 director del área de Planificación Comercial y Marketing e indirectamente al Director Gene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900000" y="476280"/>
            <a:ext cx="6912000" cy="743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ANÁLISIS DE VARIOS PUESTOS DE TRABAJO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47" name="" descr="Ver imagen en tamaño completo"/>
          <p:cNvPicPr/>
          <p:nvPr/>
        </p:nvPicPr>
        <p:blipFill>
          <a:blip r:embed="rId3"/>
          <a:stretch/>
        </p:blipFill>
        <p:spPr>
          <a:xfrm>
            <a:off x="6156360" y="5877000"/>
            <a:ext cx="2784600" cy="76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3T10:50:49Z</dcterms:created>
  <dc:creator>Lena Salas</dc:creator>
  <dc:description/>
  <dc:language>en-US</dc:language>
  <cp:lastModifiedBy>Familia</cp:lastModifiedBy>
  <dcterms:modified xsi:type="dcterms:W3CDTF">2009-05-15T17:36:46Z</dcterms:modified>
  <cp:revision>5</cp:revision>
  <dc:subject/>
  <dc:title>Diapositiva 1</dc:title>
</cp:coreProperties>
</file>